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9EFD-B11C-48DB-8E7D-C15F3C60F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352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7FF5-B588-4E94-820C-6C07F9842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348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25C4-D04C-40B6-9D86-65188A40F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5920" y="190476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4280" y="190476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352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5920" y="413352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4280" y="413352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C3F2-7661-44BB-84FA-5B8A9F409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8895E-1ACE-4714-BB64-78C9E8BFE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4F6B8-CA3F-4903-9CBA-97DB7FB4F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73B07-03B4-44FB-B8EA-35241430D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B5EA5-F350-4438-A869-399245326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F9FA7-A849-4D30-96D0-F6D03A2C7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3059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F1E79-583F-4CAA-92DA-04B84C897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AB09F-4251-4C89-9547-C51A82A0A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1D7A-91F6-4BE3-A16F-0E2547628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1348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20425-F958-494F-9CC5-45DCBA193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352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06C54-9D54-4EE5-9A11-855DAE19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352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66D2F-24B1-428F-B706-68A6ED295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1348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71FA2-0E51-4CD6-AB72-F0D42F700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65920" y="190476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4280" y="190476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352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65920" y="413352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4280" y="413352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96208-7C26-4247-820B-9981CE5A7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CE7C-CB0C-45EF-9279-113FE5BDB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2441-E40B-4563-BA80-3BF35AB7A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8D54-3BB8-4651-BF17-60298F447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3059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3B3E-3BDC-4CDB-85D4-1FE98F680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D16E-7C5B-4233-ABA6-AE7DB4F3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348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ABC8-CE13-4B00-BBEB-144975BD5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352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A146-E932-41AB-8C0C-049089E5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17227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9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9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66520" y="6477120"/>
            <a:ext cx="12956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14440" y="6477120"/>
            <a:ext cx="2895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920" y="6477120"/>
            <a:ext cx="1295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504A0-5AEB-4291-8BC7-722C9D3173BD}" type="slidenum">
              <a:rPr b="0" lang="en-AU" sz="10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17227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9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9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361960" y="640080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AA4C2-6F6F-4715-8E02-F7D7137581C7}" type="slidenum">
              <a:rPr b="0" lang="en-AU" sz="10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817227"/>
                </a:solidFill>
                <a:latin typeface="Arial Black"/>
              </a:rPr>
              <a:t>Cells and Systems</a:t>
            </a:r>
            <a:endParaRPr b="0" lang="en-US" sz="44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708000" y="3657240"/>
            <a:ext cx="4902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817227"/>
                </a:solidFill>
                <a:latin typeface="Arial Black"/>
              </a:rPr>
              <a:t>Student Knowledge and Skills</a:t>
            </a:r>
            <a:endParaRPr b="0" lang="en-US" sz="36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30592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993300"/>
                </a:solidFill>
                <a:latin typeface="Arial"/>
              </a:rPr>
              <a:t>WHAT YOU WILL LEARN BY THE END OF THIS UNIT: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2060"/>
                </a:solidFill>
                <a:latin typeface="Arial"/>
              </a:rPr>
              <a:t>List the main parts of a microscope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2060"/>
                </a:solidFill>
                <a:latin typeface="Arial"/>
              </a:rPr>
              <a:t>How a microscope works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2060"/>
                </a:solidFill>
                <a:latin typeface="Arial"/>
              </a:rPr>
              <a:t>The differences between plant and animal cells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2060"/>
                </a:solidFill>
                <a:latin typeface="Arial"/>
              </a:rPr>
              <a:t>The components of cells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2060"/>
                </a:solidFill>
                <a:latin typeface="Arial"/>
              </a:rPr>
              <a:t>The jobs performed by different plant and animal cells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2060"/>
                </a:solidFill>
                <a:latin typeface="Arial"/>
              </a:rPr>
              <a:t>The jobs performed by different tissues in animals and plants.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2060"/>
                </a:solidFill>
                <a:latin typeface="Arial"/>
              </a:rPr>
              <a:t>How to make a wet mount and stain the mount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2060"/>
                </a:solidFill>
                <a:latin typeface="Arial"/>
              </a:rPr>
              <a:t>Make an accurate drawing of a cell.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17227"/>
                </a:solidFill>
                <a:latin typeface="Arial Black"/>
              </a:rPr>
              <a:t>Plant Cells</a:t>
            </a: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87" name="Content Placeholder 2"/>
          <p:cNvSpPr/>
          <p:nvPr/>
        </p:nvSpPr>
        <p:spPr>
          <a:xfrm>
            <a:off x="395280" y="1825560"/>
            <a:ext cx="830592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  <a:ea typeface="ＭＳ Ｐゴシック"/>
              </a:rPr>
              <a:t>Stick the handout in your book, and then summarise each by f</a:t>
            </a:r>
            <a:r>
              <a:rPr b="0" lang="en-AU" sz="2400" spc="-1" strike="noStrike">
                <a:solidFill>
                  <a:srgbClr val="993300"/>
                </a:solidFill>
                <a:latin typeface="Arial"/>
                <a:ea typeface="ＭＳ Ｐゴシック"/>
              </a:rPr>
              <a:t>illing in the following table: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539640" y="2997360"/>
          <a:ext cx="7993080" cy="2646360"/>
        </p:xfrm>
        <a:graphic>
          <a:graphicData uri="http://schemas.openxmlformats.org/drawingml/2006/table">
            <a:tbl>
              <a:tblPr/>
              <a:tblGrid>
                <a:gridCol w="2160720"/>
                <a:gridCol w="5832360"/>
              </a:tblGrid>
              <a:tr h="377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800" spc="-1" strike="noStrike">
                          <a:solidFill>
                            <a:srgbClr val="5c1f00"/>
                          </a:solidFill>
                          <a:latin typeface="Arial"/>
                        </a:rPr>
                        <a:t>Cell Type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872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800" spc="-1" strike="noStrike">
                          <a:solidFill>
                            <a:srgbClr val="5c1f00"/>
                          </a:solidFill>
                          <a:latin typeface="Arial"/>
                        </a:rPr>
                        <a:t>Details (eg size, function, location etc)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872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5c1f00"/>
                          </a:solidFill>
                          <a:latin typeface="Arial"/>
                        </a:rPr>
                        <a:t>Guard Cell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87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87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5c1f00"/>
                          </a:solidFill>
                          <a:latin typeface="Arial"/>
                        </a:rPr>
                        <a:t>Xylem Cell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5c1f00"/>
                          </a:solidFill>
                          <a:latin typeface="Arial"/>
                        </a:rPr>
                        <a:t>Root Hair Cell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5c1f00"/>
                          </a:solidFill>
                          <a:latin typeface="Arial"/>
                        </a:rPr>
                        <a:t>Leaf Cells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5c1f00"/>
                          </a:solidFill>
                          <a:latin typeface="Arial"/>
                        </a:rPr>
                        <a:t>Epidermal Cell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5c1f00"/>
                          </a:solidFill>
                          <a:latin typeface="Arial"/>
                        </a:rPr>
                        <a:t>Phloem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817227"/>
                </a:solidFill>
                <a:latin typeface="Arial Black"/>
              </a:rPr>
              <a:t>Plant Transport</a:t>
            </a: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993300"/>
                </a:solidFill>
                <a:latin typeface="Arial"/>
              </a:rPr>
              <a:t>Phloem: the cells together form thin tubules that transport sugar up and down the plant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993300"/>
                </a:solidFill>
                <a:latin typeface="Arial"/>
              </a:rPr>
              <a:t>Xylem: water and minerals in a plant are transported in tubules called xylem vessels.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he xylem is made up of dead cells and bundled with the phloem help make a plant rigid.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817227"/>
                </a:solidFill>
                <a:latin typeface="Arial Black"/>
              </a:rPr>
              <a:t>Stoma</a:t>
            </a: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993300"/>
                </a:solidFill>
                <a:latin typeface="Arial"/>
              </a:rPr>
              <a:t>Guard cells in the leaves surround each stoma (opening) in the leaf.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993300"/>
                </a:solidFill>
                <a:latin typeface="Arial"/>
              </a:rPr>
              <a:t>Water, oxygen and carbon dioxide pass in and out of these stoma.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993300"/>
                </a:solidFill>
                <a:latin typeface="Arial"/>
              </a:rPr>
              <a:t>The stoma open and close to control the loss of water etc.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57200" y="1904760"/>
            <a:ext cx="8305920" cy="4267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250920" y="1125360"/>
            <a:ext cx="872316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06:10:25Z</dcterms:created>
  <dc:creator>Administrator</dc:creator>
  <dc:description/>
  <dc:language>en-US</dc:language>
  <cp:lastModifiedBy>Peter Kos</cp:lastModifiedBy>
  <dcterms:modified xsi:type="dcterms:W3CDTF">2012-05-31T07:07:29Z</dcterms:modified>
  <cp:revision>66</cp:revision>
  <dc:subject/>
  <dc:title>Cells and Syste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819391033</vt:lpwstr>
  </property>
</Properties>
</file>